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A31-BD8C-4B43-A166-7356471C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A10-04B9-42F9-ACF6-F7D0EBDF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192-0A45-4E99-88CD-47A36E2D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DEA-A2BE-45C5-B924-90F6C644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7369-9D42-413A-B90C-A81DE4AB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1C22-7626-49F2-A44A-3CA72825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DD74-02F6-4C9B-9F00-09C8711C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3438-2CF6-42E0-8703-44A49FD2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4001-BCC1-4C8F-B8BD-9CDB93D6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8DFD-8C7C-4258-B6EB-CAE70240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C62D-993F-4388-BC41-4711718D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3E0-B483-43D0-8B75-9E6A2ED0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2526-B36D-4F14-B129-E5D243C1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922E-D673-4ABB-BB61-DD989713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522F-A299-4C7F-A459-49172E8D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485B-904A-4B6D-9FE2-6B6C1143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BE7C-567D-415A-9AC6-597C6443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964-8F5C-435B-8926-A50603BA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2B2-F4F1-4B0F-AB77-583E7C1D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0DB-12A2-4B4C-8B31-024DFF31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51F-6410-43FC-8FC9-A9F1E7BC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16F-7EAF-4D22-860A-AB672F6B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3D2-488E-4A8D-A58A-513C13BC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254-B6A7-4DC8-9DB0-117F7695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3D34-6B20-4DDA-B481-5163FC08751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D582-BBB9-4A4B-AC2B-623F8413F68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zps.ru/articles/cmmn/cmmn82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a/Human_brain_NIH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Зависит ли поведение человека от особенностей нервной системы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Выполнила: Димитрова Ирина 234 групп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32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(спин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сположен в позвоночном канал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Имеет вид тяж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Защищен мягкой, мозговой и паутинной оболочкам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 центре расположено серое вещество, снаружи- бело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900760" y="1676520"/>
          <a:ext cx="165744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0760" y="1676520"/>
                    <a:ext cx="165744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Периферическая нервная систем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Включает симпатическую и парасимпатическую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Регулирует работу внутренних органов и обмен вещест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Реагирует на стресс, отвечает за пульс, давление, чувство волнения и выработку адренал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304920"/>
            <a:ext cx="7620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От особенностей нервной системы зависит поведение человека. Выделяют 4 типа нервной систем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сильный безудержный тип, соответствующий холерическому темпераменту, с сильными процессами возбуждения и торможения, но неуравновешенный, с преобладанием возбуждения над торможением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сильный живой тип, соответствующий сангвиническому темпераменту, с сильными нервными процессами, уравновешенный, с хорошей подвижностью, т. е. быстрой сменой возбуждения на торможение и торможения на возбуждени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сильный спокойный тип, соответствующий флегматичному темпераменту, отличается сильными уравновешенными процессами возбуждения и торможения, но малой их подвижностью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слабый тип, соответствующий меланхолическому темпераменту, со слабыми нервными процессами как возбуждения, так и торможения, с низкой работоспособностью клеток коры головного мозг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95280" y="1598760"/>
            <a:ext cx="65534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Заболевания нервной сист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ервные болезни - заболевания нервной системы, которые могут быть обусловлены органическими (сосудистыми, травматическими, токсическими и пр.) или функциональными (невротическими) расстройствам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исхождение нервных болезней также может быть связано и с генетическими (наследственными) факторами. Проявляются симптомами выпадения (параличи, утрата чувствительности), раздражения (боли и пр.) и нарушения интегративной функции нервной системы, когда могут преобладать расстройства психи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Заболевания нервной сист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еври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Болезнь Паркинсон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евраст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Эпилепс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Альцгеймер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762120"/>
            <a:ext cx="716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 заключении можно сказать, что нервная система, является, несомненно, самой сложной из всех систем органов и выполняет ряд сложных функций в организме. Анатомически она состоит из центральной нервной системы (ЦНС) и периферической нервной системы (ПНС). Нервная система влияет на поведение человека, а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типы высшей нервной деятельности являются основой будущего характер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апин М.Р., Никитюк Д.Б. Анатомия человека. - В 3 томах. - М. - 1998. - Т.3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злов В. И., Цехмистренко Т. А. Анатомия нервной системы. – М. – 2006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azps.ru/articles/cmmn/cmmn82.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Сформировать представление о строении нервной клетки, об особенностях нервной системы человека.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297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Найти и выучить основные термин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Определить основные функции нервной систем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Изучить отделы нервной систем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Расскрыть основные типы нервной системы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НЕРВНАЯ СИСТЕМА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это совокупность структур в организме животных и человека, объединяющая деятельность всех органов и систем и обеспечивающая функционирование организма как единого целого в его постоянном взаимодействии с внешней средой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СТРОЕНИЕ НЕЙРО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99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ФУНКЦИИ НЕРВНОЙ СИСТ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олучение, хранение и переработка информации из внешней и внутренней сред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регуляция и координация деятельности всех органов и органных систе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В нервной системе выделяю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Центральную нервную систему (головной и спинной мозг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ериферическую нервную систему (нервы, ганглии, нервные окончан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32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(голов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сположен в полости череп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остоит из 5 отделов: продолговатый мозг, мозжечок, средний мозг, промежуточный мозг и кора больших полушари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Файл:Human brain NIH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800600"/>
            <a:ext cx="2470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28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(голов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676520"/>
            <a:ext cx="769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Функции головного мозг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25909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лавный центр жизненноважных рефлекс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еспечивает согласованность движ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гулирует обмен веществ и постоянство внутренней сре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нтролирует работу всех орган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9:36:45Z</dcterms:created>
  <dc:creator>user</dc:creator>
  <dc:description/>
  <dc:language>en-US</dc:language>
  <cp:lastModifiedBy>777</cp:lastModifiedBy>
  <dcterms:modified xsi:type="dcterms:W3CDTF">2011-03-16T14:55:0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